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218-9816-482A-8C40-613E7E30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F9D-71BB-4C8D-905C-3E85437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267-3E1B-4ECD-95A3-CD721291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0CD-1558-4835-AD99-13D5EEDA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CC7-0BC4-4D17-BF4E-18E2AEF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8A1-C654-47ED-8493-ADC99AF0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E7D-5BD6-451C-AE5B-7B099BD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409-E8B7-40ED-B086-FB72F7C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64F-684F-4353-A421-9A47A08B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3CB-1F97-487C-A2BF-9CF1A63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97D-8C34-4AE3-85BA-A098348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DDA-89C1-4649-BCA5-E884793D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018C-8DD8-43D8-951A-4A3C58AE2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ensus.gov/prod/cen2010/briefs/c2010br-04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y learn Span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Cj0423828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2895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15328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74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400 million people around the world speak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hinese, English and Spanish are tied as the two most frequently spoken languag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st used language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rope, Spanish is the most popular foreign language after Eng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knowing Spanish help your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pani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Cj04244640000[1]"/>
          <p:cNvPicPr/>
          <p:nvPr/>
        </p:nvPicPr>
        <p:blipFill>
          <a:blip r:embed="rId1"/>
          <a:stretch/>
        </p:blipFill>
        <p:spPr>
          <a:xfrm>
            <a:off x="5745240" y="1712880"/>
            <a:ext cx="1844640" cy="1959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MCj04247840000[1]"/>
          <p:cNvPicPr/>
          <p:nvPr/>
        </p:nvPicPr>
        <p:blipFill>
          <a:blip r:embed="rId2"/>
          <a:stretch/>
        </p:blipFill>
        <p:spPr>
          <a:xfrm>
            <a:off x="5780160" y="4216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11"/>
          <p:cNvSpPr txBox="1"/>
          <p:nvPr/>
        </p:nvSpPr>
        <p:spPr>
          <a:xfrm>
            <a:off x="1981080" y="4724280"/>
            <a:ext cx="2057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$$$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Spanish is useful in many careers.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er/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el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L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ranslator/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 Patrol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eign Affairs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chool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igration Insp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national Ba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orat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national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, many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2057400" y="5791320"/>
            <a:ext cx="423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$ = 100K/yr. or mor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Spanish challenge 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t to lear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MPj04278250000[1]"/>
          <p:cNvPicPr/>
          <p:nvPr/>
        </p:nvPicPr>
        <p:blipFill>
          <a:blip r:embed="rId1"/>
          <a:stretch/>
        </p:blipFill>
        <p:spPr>
          <a:xfrm>
            <a:off x="4648320" y="204948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ason #5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Cj04246500000[1]"/>
          <p:cNvPicPr/>
          <p:nvPr/>
        </p:nvPicPr>
        <p:blipFill>
          <a:blip r:embed="rId1"/>
          <a:stretch/>
        </p:blipFill>
        <p:spPr>
          <a:xfrm>
            <a:off x="1295280" y="2133720"/>
            <a:ext cx="2743200" cy="33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MCj04363390000[1]"/>
          <p:cNvPicPr/>
          <p:nvPr/>
        </p:nvPicPr>
        <p:blipFill>
          <a:blip r:embed="rId2"/>
          <a:stretch/>
        </p:blipFill>
        <p:spPr>
          <a:xfrm>
            <a:off x="5486400" y="1371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Pj04329110000[1]"/>
          <p:cNvPicPr/>
          <p:nvPr/>
        </p:nvPicPr>
        <p:blipFill>
          <a:blip r:embed="rId3"/>
          <a:stretch/>
        </p:blipFill>
        <p:spPr>
          <a:xfrm>
            <a:off x="5562720" y="3505320"/>
            <a:ext cx="2593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5 major reasons why we should learn Spa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preciate the importance of Spanish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with Spanish speak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your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challe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4495680" y="426708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¡Muy Bien Clas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5 main reasons we should  lear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knowing Spanish help us in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5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Reas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appreciate the importance of Spanish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communicate with Spanish speak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help you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be challe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have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preciate the importance of Spanish in the U.S. you must first realiz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Spanish influence is everywher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spanish signs"/>
          <p:cNvPicPr/>
          <p:nvPr/>
        </p:nvPicPr>
        <p:blipFill>
          <a:blip r:embed="rId1"/>
          <a:stretch/>
        </p:blipFill>
        <p:spPr>
          <a:xfrm>
            <a:off x="4114800" y="3886200"/>
            <a:ext cx="1752480" cy="16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U.S cities have Spanish influ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Pj04032270000[1]"/>
          <p:cNvPicPr/>
          <p:nvPr/>
        </p:nvPicPr>
        <p:blipFill>
          <a:blip r:embed="rId1"/>
          <a:stretch/>
        </p:blipFill>
        <p:spPr>
          <a:xfrm>
            <a:off x="525600" y="256212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Cj02317890000[1]"/>
          <p:cNvPicPr/>
          <p:nvPr/>
        </p:nvPicPr>
        <p:blipFill>
          <a:blip r:embed="rId2"/>
          <a:stretch/>
        </p:blipFill>
        <p:spPr>
          <a:xfrm>
            <a:off x="5708520" y="1649520"/>
            <a:ext cx="1917720" cy="20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MPj03861770000[1]"/>
          <p:cNvPicPr/>
          <p:nvPr/>
        </p:nvPicPr>
        <p:blipFill>
          <a:blip r:embed="rId3"/>
          <a:stretch/>
        </p:blipFill>
        <p:spPr>
          <a:xfrm>
            <a:off x="5942160" y="3938760"/>
            <a:ext cx="145080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1176480" y="2703600"/>
            <a:ext cx="6791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n you think of any mo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learn it to communic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is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st common language that is spoken in the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MPj04025940000[1]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sus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ensus.gov/prod/cen2010/briefs/c2010br-04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82800" y="533520"/>
            <a:ext cx="71784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7820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2:59:47Z</dcterms:created>
  <dc:creator>ctaylor-simon</dc:creator>
  <dc:description/>
  <dc:language>en-US</dc:language>
  <cp:lastModifiedBy>Jose</cp:lastModifiedBy>
  <dcterms:modified xsi:type="dcterms:W3CDTF">2013-08-12T00:55:48Z</dcterms:modified>
  <cp:revision>24</cp:revision>
  <dc:subject/>
  <dc:title>Why learn Spanish?</dc:title>
</cp:coreProperties>
</file>